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5.wmf" ContentType="image/x-wmf"/>
  <Override PartName="/ppt/media/image6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CA7-6EE7-47A2-95EA-7BC3BD94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CEF-7E29-4E5D-9F3A-FFF71C8C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1C4-8DC6-4760-B11B-A9A4D56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B18-69DF-46BC-BDDE-5B4EA145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2D-3AFB-4ADD-880E-5556E88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8D8-EB37-4233-9911-C155F4CF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FDB-1E41-41B7-8361-6718E68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8F3-C550-4ADD-9AE6-310F993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630-0B29-48CC-8B5E-E5ED7FC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10A-65FC-43B9-B003-C18AF17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D88-F8C2-4EDA-8BFB-DBF8A1AF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B7-3260-47FE-8AE8-A0C54A78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77920" indent="-2286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9320" y="60480"/>
            <a:ext cx="9042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cc"/>
                </a:solidFill>
                <a:latin typeface="隶书"/>
                <a:ea typeface="隶书"/>
              </a:rPr>
              <a:t>第四章  直接数字控制及其算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62520" y="339840"/>
            <a:ext cx="243828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239-CDC9-4F82-9B3C-42C09773300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7.xml"/><Relationship Id="rId16" Type="http://schemas.openxmlformats.org/officeDocument/2006/relationships/slide" Target="slide37.xml"/><Relationship Id="rId17" Type="http://schemas.openxmlformats.org/officeDocument/2006/relationships/slide" Target="slide37.xml"/><Relationship Id="rId18" Type="http://schemas.openxmlformats.org/officeDocument/2006/relationships/slide" Target="slide37.xml"/><Relationship Id="rId19" Type="http://schemas.openxmlformats.org/officeDocument/2006/relationships/slide" Target="slide37.xml"/><Relationship Id="rId20" Type="http://schemas.openxmlformats.org/officeDocument/2006/relationships/slide" Target="slide43.xml"/><Relationship Id="rId21" Type="http://schemas.openxmlformats.org/officeDocument/2006/relationships/slide" Target="slide43.xml"/><Relationship Id="rId22" Type="http://schemas.openxmlformats.org/officeDocument/2006/relationships/slide" Target="slide43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36.xml"/><Relationship Id="rId7" Type="http://schemas.openxmlformats.org/officeDocument/2006/relationships/slide" Target="slide36.xml"/><Relationship Id="rId8" Type="http://schemas.openxmlformats.org/officeDocument/2006/relationships/slide" Target="slide36.xml"/><Relationship Id="rId9" Type="http://schemas.openxmlformats.org/officeDocument/2006/relationships/slide" Target="slide36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第四章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直接数字控制及其算法</a:t>
            </a:r>
            <a:r>
              <a:rPr b="1" lang="zh-CN" sz="32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213336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" action="ppaction://hlinksldjump"/>
              </a:rPr>
              <a:t>4.1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2" action="ppaction://hlinksldjump"/>
              </a:rPr>
              <a:t>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3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调节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6" action="ppaction://hlinksldjump"/>
              </a:rPr>
              <a:t>4.2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7" action="ppaction://hlinksldjump"/>
              </a:rPr>
              <a:t>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8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算法的数字实现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1" action="ppaction://hlinksldjump"/>
              </a:rPr>
              <a:t>4.3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算法的几种发展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5" action="ppaction://hlinksldjump"/>
              </a:rPr>
              <a:t>4.4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6" action="ppaction://hlinksldjump"/>
              </a:rPr>
              <a:t>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7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参数的整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ea typeface="Times New Roman"/>
                <a:hlinkClick r:id="rId19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0" action="ppaction://hlinksldjump"/>
              </a:rPr>
              <a:t>4.5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1" action="ppaction://hlinksldjump"/>
              </a:rPr>
              <a:t>大林算法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  <a:hlinkClick r:id="rId22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91400" y="5943600"/>
            <a:ext cx="32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P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输出特性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69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38280" y="1676520"/>
          <a:ext cx="4267440" cy="39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26744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微分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分调节器的微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86200" cy="838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4880" y="403848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微分作用响应曲线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52680" y="4572000"/>
            <a:ext cx="2438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的阶跃响应曲线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429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积分微分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进一步改善调节品质，往往把比例、积分、微分三种作用组合起来，形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。理想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微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5791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6  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对阶跃响应特性曲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83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33720" y="2666880"/>
          <a:ext cx="44193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44193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的数字实现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90920" y="2133360"/>
            <a:ext cx="487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2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控制算式的数字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4.2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算法程序设计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.1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算式的数字化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公式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可知，在模拟调节系统中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算法的模拟表达式为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5486400" cy="90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160720" y="4210200"/>
            <a:ext cx="532872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(t)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输出信号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(t)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偏差信号，它等于给定值与测量值之差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比例系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积分时间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器的微分时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量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只需保持当前时刻以前三个时刻的误差即可。它与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比，有下列优点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每次输出与整个过去状态有关，计算式中要用到过去误差的累加值，因此，容易产生较大的累积计算误差。而增量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需计算增量，计算误差或精度不足时对控制量的计算影响较小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控制从手动切换到自动时，位置式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算法必须先将计算机的输出值置为原始阀门开时，才能保证无冲击切换。若采用增量算法，与原始值无关，易于实现手动到自动的无冲击切换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2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程序设计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许多控制系统中，执行机构需要的是控制变量的绝对值而不是其增量，这时仍可采用增量式计算，但输出则采用位置式的输出形式。由变换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可得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79246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657600" y="762120"/>
          <a:ext cx="328932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3289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606800" y="1905120"/>
            <a:ext cx="9118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现以式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进行编程。参数内存分配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，流程图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2438280"/>
          <a:ext cx="256212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38280"/>
                    <a:ext cx="25621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48006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参数内部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RAM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配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080" y="6019920"/>
            <a:ext cx="27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8   PID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位置式算法流程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宋体"/>
                <a:ea typeface="Times New Roman"/>
              </a:rPr>
              <a:t>4.1 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PID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调节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6520" y="213372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1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2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调节器的优点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5" action="ppaction://hlinksldjump"/>
              </a:rPr>
              <a:t>4.1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调节器的作用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根据图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-7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流程图编写的程序清单如下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1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2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u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AH 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u(n)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补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)=w-u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5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6H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A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存放乘积高位字节地址指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I×e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Δe(n)=e(n)-e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Δe(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zh-CN" sz="20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20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A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D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E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e(n)+ e(n-2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- 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存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补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e(n)+ e(n-2)- 2e(n-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7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F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-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)=y(n-1)+ 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×(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F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D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2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E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B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9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送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e(n-1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单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C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7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8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= D×(e(n)-2e(n-1)+ e(n-2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7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6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B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A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3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取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4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46H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计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×(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1" lang="zh-CN" sz="1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DSUM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双字节加法子程序：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(R5R4)+ (R3R2)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的和送至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(R7R6)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中。</a:t>
            </a:r>
            <a:endParaRPr b="1" lang="en-US" sz="24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5486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U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CPL1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双字节求补子程序：（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R3R2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）求补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双字节有符号数乘法子程序。其程序流程图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79840" y="647640"/>
            <a:ext cx="1378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双字节有符号数乘法程序清单如下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ULT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L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被乘数符号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被乘数为正数跳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(((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                               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7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1.1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器的优点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之所以经久不衰，主要有以下优点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技术成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易被人们熟悉和掌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需要建立数学模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控制效果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33360" y="21333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L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1H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存乘数符号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POS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乘数为正数跳转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；求补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81080" y="213336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POS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CAL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N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1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J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两数同负跳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OR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1H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JN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两数同正跳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；积求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@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TPL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R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362320" y="2133360"/>
            <a:ext cx="4419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01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@R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00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算法的几种发展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1960" y="2133360"/>
            <a:ext cx="5562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3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积分分离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4" action="ppaction://hlinksldjump"/>
              </a:rPr>
              <a:t>控制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6" action="ppaction://hlinksldjump"/>
              </a:rPr>
              <a:t>4.3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变速积分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8" action="ppaction://hlinksldjump"/>
              </a:rPr>
              <a:t>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9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0" action="ppaction://hlinksldjump"/>
              </a:rPr>
              <a:t>控制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积分分离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6840" y="594360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积分分离作用的控制过程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47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33720" y="2133720"/>
          <a:ext cx="5181480" cy="34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518148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08240" y="2438280"/>
            <a:ext cx="16434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采用积分分离法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算法框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3587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3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变速积分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控制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普通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PI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算法中，由于积分系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常数，因此，在整个调节过程中，积分增益不变。但系统对积分项的要求是系统偏差大时积分作用减弱以至全无，而在小偏差时则应加强。否则，积分系数取大了会产生超调，甚至积分饱和，取小了又迟迟不能消除静差。采用变速积分可以很好地解决这一问题。变速积分的基本思想是设法改变积分项的累加速度，使其与偏差的大小相对应：偏差越大，积分越慢；偏差越小，积分越快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参数的整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61960" y="2209680"/>
            <a:ext cx="55623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4.4.1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2" action="ppaction://hlinksldjump"/>
              </a:rPr>
              <a:t>采样周期的确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  <a:hlinkClick r:id="rId4" action="ppaction://hlinksldjump"/>
              </a:rPr>
              <a:t>4.4.2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5" action="ppaction://hlinksldjump"/>
              </a:rPr>
              <a:t>凑试法确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6" action="ppaction://hlinksldjump"/>
              </a:rPr>
              <a:t>PID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hlinkClick r:id="rId7" action="ppaction://hlinksldjump"/>
              </a:rPr>
              <a:t>调节参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4.3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优选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采样周期的确定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根据香农采样定理，系统采样频率的下限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=2f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m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此时系统可真实地恢复到原来的连续信号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执行机构的特性要求来看，有时需要输出信号保持一定的宽度。采样周期必须大于这一时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控制系统的随动和抗干扰的性能来看，要求采样周期短些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微机的工作量和每个调节回路的计算来看，一般要求采样周期大些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从计算机的精度看，过短的采样周期是不合适的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4-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采样周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经验数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962160" cy="2487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1.2  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器的作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920" y="21333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积分调节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微分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比例积分微分调节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凑试法确定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PID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调节参数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凑试时，可参考以上参数分析控制过程的影响趋势，对参数进行先比例，后积分，再微分的整定步骤。步骤如下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整定比例部分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如果仅调节比例调节器参数，系统的静差还达不到设计要求时，则需加入积分环节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若使用比例积分器，能消除静差，但动态过程经反复调整后仍达不到要求，这时可加入微分环节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4-3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常见被调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PI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参数经验选择范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066680" y="3276720"/>
          <a:ext cx="747252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747252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4.3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优选法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用优选法对自动调节参数进行整定也是经验法的一种。其方法是根据经验，先把其他参数固定，然后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6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法对其中某一个参数进行优选，待选出最佳参数后，再换另一个参数进行优选，直到把所有的参数优选完毕为止。最后根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8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诸参数优选的结果取一组最佳值即可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4.5  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大林算法 </a:t>
            </a:r>
            <a:endParaRPr b="1" lang="en-US" sz="36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5.1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林算法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(z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形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5.2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林算法在热处理炉温控制中的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9440" y="632268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5.1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大林算法的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D(z)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基本形式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应用优选法对自动调节参数进行整定也是经验法的一种。其方法是根据经验，先把其他参数固定，然后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.6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法对其中某一个参数进行优选，待选出最佳参数后，再换另一个参数进行优选，直到把所有的参数优选完毕为止。最后根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诸参数优选的结果取一组最佳值即可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76520" y="4800600"/>
            <a:ext cx="67816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带有纯滞后的一阶惯性环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被控对象是带有纯滞后的一阶惯性环节时，由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知，带有纯滞后的一阶惯性环节的传递函数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66294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带有纯滞后的二阶惯性环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当被控对象是带有纯滞后的二阶惯性环节时，由式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知，带有纯滞后的二阶惯性环节的传递函数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4419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过计算即可求出数字控制器的模型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8153640" cy="1052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29792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4.5.2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大林算法在热处理炉温控制中的应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片机控制电炉的恒温系统是一个典型的闭环控制系统。这个系统的结构如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-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3240" y="6221520"/>
            <a:ext cx="28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2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单片机控制电炉的恒温系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13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828800" y="2971800"/>
          <a:ext cx="51814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51814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实现对电炉的温度自动控制，首先要求电炉的数学模型。对晶闸管加入一个阶跃电压，令其全部导通，测量电炉的温度变化，可得到电炉的响应曲线。从响应曲线看，电炉是可近似看成是一个纯滞后的一阶惯性环节。因此，根据上节推导，可以得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6248160" cy="18651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39080" y="632268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比例调节器 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调节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例调节器的微分方程为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=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(t)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调节器输出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比例系数；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e(t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调节器输入偏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上式可以看出，调节器的输出与输入偏差成正比。因此，只要偏差出现，就能及时地产生与之成比例的调节作用，具有调节及时的特点。比例调节器的特性曲线，如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本章到此结束，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谢谢您的光临！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31120" y="6246360"/>
            <a:ext cx="109512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endshow"/>
          </p:cNvPr>
          <p:cNvSpPr/>
          <p:nvPr/>
        </p:nvSpPr>
        <p:spPr>
          <a:xfrm>
            <a:off x="5900760" y="6246360"/>
            <a:ext cx="790200" cy="398880"/>
          </a:xfrm>
          <a:prstGeom prst="rect">
            <a:avLst/>
          </a:prstGeom>
          <a:noFill/>
          <a:ln cap="rnd" w="7632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ffcc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8080" y="60199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阶跃响应特性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20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676520"/>
          <a:ext cx="5257800" cy="39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257800" cy="39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比例积分调节器</a:t>
            </a: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比例积分调节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谓积分作用是指调节器的输出与输入偏差的积分成比例的作用。积分方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4876560" cy="84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4940280"/>
            <a:ext cx="7372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式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积分时间常数，它表示积分速度的大小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 baseline="-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越大，积分速度越慢，积分作用越弱。积分作用的响应特性曲线，如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70680" y="58672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积分作用响应曲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696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38280" y="1676520"/>
          <a:ext cx="40388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0388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若将比例和积分两种作用结合起来，就构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，调节规律为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57800" cy="782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7640" y="50292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节器的输出特性曲线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3:40:45Z</dcterms:created>
  <dc:creator>新人电脑</dc:creator>
  <dc:description/>
  <dc:language>en-US</dc:language>
  <cp:lastModifiedBy>li</cp:lastModifiedBy>
  <dcterms:modified xsi:type="dcterms:W3CDTF">2002-02-01T08:39:14Z</dcterms:modified>
  <cp:revision>24</cp:revision>
  <dc:subject/>
  <dc:title>第四章  直接数字控制及其算法 </dc:title>
</cp:coreProperties>
</file>